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D539-6855-4804-9563-71CCE6CA1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947E-1413-42A7-B916-7AF350474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EFF7-3E0F-43DC-AD9D-418AAAD21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A7BD-4A46-4F50-A3E1-5D5003015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15657-6D16-4B51-A80A-118B20A15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11FCA-3736-4EC8-8031-9A5831882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1A66A-AFDA-4D39-BA94-388ED48E0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DCBF4-F8B8-4C83-B683-DA786BE52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2619C-E3F4-4D06-AC3B-2B1A6E7F3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114A4-025A-48C6-9E13-A365AA157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873C2-D638-4237-B69E-2BF1AFB1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CB2C-23EC-4115-8AE2-4333CEC7C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69156-56CD-4ECB-8466-8184727E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41430-83A1-4928-A664-4F118ED8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A220F-F75D-4870-B9E4-5AC2C413B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D6323-0093-4702-9850-ACF02DD48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1D92B-EE55-42F8-812E-53C5ECC6E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43BA-664E-41F7-B15E-0BACBEFFB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4760-258B-4A33-9D6B-A8596B392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EA15-B36B-4F96-8614-7EF8CD6BD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3411-403E-4F79-93F6-DBCE8EB67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D0C4-DAF7-416D-9105-9D23B156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CCD7-EE37-4FD0-B807-3044C3E6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8ADC-2055-48A6-B3FA-C6B17D71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4DD1B-022B-4B51-B7DD-F3AF5393EBD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B662C-DFD0-44F8-8196-1ECBC1E5149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5240" y="30456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Me llamo________  Clase 7 IL 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La fecha es el 30 de mayo del 2013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Verdana"/>
              </a:rPr>
              <a:t>Propósito # 86:</a:t>
            </a:r>
            <a:r>
              <a:rPr b="0" lang="es-ES_tradnl" sz="28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n Repaso de los Pronombres de Objeto Directo</a:t>
            </a:r>
            <a:r>
              <a:rPr b="0" lang="es-ES_tradnl" sz="2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Verdana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write using the Direct Object Pronou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eresa compró la crema protector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rlos compró el bañador ay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rlos y Teresa pasaron el día en la play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afael compró los anteojos de sol ay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Yo tomé las fotos en la play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rmen miró las fot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pleta la hoja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Verdana"/>
              </a:rPr>
              <a:t>P.O.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914400" y="1523880"/>
            <a:ext cx="7618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EXTBOOK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pia y completa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Ejercicio 9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p. 134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pia y completa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Historieta 10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p. 134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pia y responde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Historieta 11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p. 134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1219320" y="22860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area # 86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5T01:07:33Z</dcterms:created>
  <dc:creator>Helen Zumaeta</dc:creator>
  <dc:description/>
  <dc:language>en-US</dc:language>
  <cp:lastModifiedBy>Helen Zumaeta</cp:lastModifiedBy>
  <dcterms:modified xsi:type="dcterms:W3CDTF">2013-05-30T20:46:43Z</dcterms:modified>
  <cp:revision>11</cp:revision>
  <dc:subject/>
  <dc:title>Me llamo________ Clase 9 IM  La fecha es el 25 de septiembre del 2012</dc:title>
</cp:coreProperties>
</file>